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9859-245C-4116-AD7A-093B85D01F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B77F-2337-4210-9ECB-601E9A27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C387B-FDA1-4F7D-A762-DC7F3F27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F587-03B0-4E80-8603-65E1A0D526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6142-8E3F-4F2D-B861-E4273146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CA0D5-1479-476B-BB6D-FC8FF089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01C2E-FD58-49F7-813D-C9CF8BCF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3F53-0CBF-453F-9F85-9A4D6428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0758C-B2EB-4E87-8B77-02B84567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7E8F4-E005-44D3-B6BC-FCE2E357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E67BF-1225-4D3D-8502-D369D2F9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FD32-D2DC-479D-9565-1CCF412C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241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9730-28DD-4AE9-A7CA-26A8E274A1F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57200" y="533520"/>
            <a:ext cx="373392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-23-4567 Adams Joh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eant First Class (E-7), as of 03-Dec-20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Record As Of Today................................December 3 20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ve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..............................................Adams John Quinc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Security Number........................................001-23-45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 Social Security Number...............................000-00-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Grade..........................................................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Date of Grade.......................................Dec 12,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Date of Grade Flag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 - 1st Prior.....................................................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Date of Grade.......................................Jul 27,1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Grade - 2nd Prior......................................................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 Indicator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Date......................................................April 01,-19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Date 1st Prior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Prior Service........................................................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E.....................................................................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der..................................................................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Active Federal Military Service Counter.......................01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...........................................................Dec 31, 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Gain..................................................Apr-01,20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Indicator........................................................GG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Separation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Indicator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 Code..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...............................................................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 Component.........................................................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 Flag......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..............................................................V2SKVAA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assignment to current PAS.............................Mar 01,-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1st Prior............................................................S2444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idated Base Personnel Office 1st Prior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assignment 1st Prior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2nd Prior...........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idated Base Personnel Office 2nd Prior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assignment 2nd Prior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3rd Prior...........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idated Base Personnel Office 3rd Prior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assignment 3rd Prior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809880" y="685800"/>
            <a:ext cx="457200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4th Prior.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idated Base Personnel Office 4th Prior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assignment 4th Prior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P Flag......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Element Code...............................................PAPD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Element Code Prior.........................................H6GR1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Pay Group Mobilization Augmentee (PGMA)..........................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Pay Group Mobilization Augmentee Prior (ST-PGMA-PR)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 Security Account Number................................001-23-45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................................................................Ada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...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et..................................................163 E KERCHER A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y..............................................................LEBAN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..................................................................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p Code.......................................................17046-92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.......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Name.........................................Adams John Quinc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 Date...............................................19-Nov-20*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...................................................................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 Agency.......................................................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..................................................................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Indicator........................................................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72200" y="19368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4F06-4152-4246-82D4-736CCD947605}" type="slidenum">
              <a:t>1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33520"/>
            <a:ext cx="36576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Stat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uty Paid to Date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Status 1............................................................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Status 1 Start Date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Status 1 Stop Date.............................................9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Processing Code 1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Status 2..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Status 2 Start Date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Status 2 Stop Date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Processing Code 2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d Pay Stat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d pay status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llowance for Subsist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...................................................................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 Start...........................................................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........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 Stop............................................................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.........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Tra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Number of First Long Tour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Number of Second Long Tour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Days for First Long Tour........................................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Days for Second Long Tour.......................................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llowance for Housing Type II (BA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.................................................................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Type.........................................................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ngest Child DOB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Date...................................................Jan 01, 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Prior...........................................................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Certification Date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s Available.....................................................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.............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............................................................…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entive P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..................................................................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..............................................................Oct 12, 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...............................................................Dec 30,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r Service Date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iation Service Date..............................................00000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762120"/>
            <a:ext cx="373356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 Allow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.................................................................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ment Date......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Date.......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Duty P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..............................................................Sep 27, 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...............................................................Jul 30,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Dental Veterinary Officer Pay (MDV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...................................................................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................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Service Date...............................................00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 Code.......................................................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y Separation Allowance Type 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..............................................................Jul 31, 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...............................................................Jul 30,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ile Fire P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..............................................................Sep 27, 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...............................................................Jul 30,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llowance for Housing (BA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p Code............................................................21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A Daily Rate....................................................0.0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A Start.........................................................Jan 01,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A Stop..........................................................Jul 30,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Dependents...................................................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A Indicator.........................................................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05720" y="1936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2DAB4-DEBC-4071-A39A-728FD9E3B275}" type="slidenum">
              <a:t>2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4T18:18:27Z</dcterms:created>
  <dc:creator>brosius</dc:creator>
  <dc:description/>
  <dc:language>en-US</dc:language>
  <cp:lastModifiedBy>US ARMY</cp:lastModifiedBy>
  <dcterms:modified xsi:type="dcterms:W3CDTF">2001-12-03T21:19:47Z</dcterms:modified>
  <cp:revision>8</cp:revision>
  <dc:subject/>
  <dc:title>No Slide Title</dc:title>
</cp:coreProperties>
</file>